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A4BDB-6BAA-4FE6-942B-D3922FA21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AC514-4383-4FB9-A61B-58536704F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819A6-8A3E-4239-8092-4B6338B04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7BCEA-0C26-4092-BC0C-6C81C1335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7958C-6450-4A26-8C8D-3C586A169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3977A-E1C7-4C4A-BD1A-47E92067F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A7536-E852-4067-B163-525267174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1D34A-0BC8-46FC-928E-3D5462416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1F9C-88CE-454C-AEF3-8A185FF90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3950-1283-4340-BB21-D7239FB5E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083E-7DF4-4294-B159-1ED77A3DB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7DB1-9EB9-4857-9BE2-6990DE752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6886-CEFC-4762-84DF-980EE29B2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DF46-9E0F-4C9A-B7A8-6BA48BECD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A731-77D6-45E2-97B2-A39DB327D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95C1-1069-4B02-8799-9C03E7D8C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2F39-635E-41AC-90A9-A0F658B78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B98F-303E-43EC-B3A3-C010B74E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8C76-3108-417D-808A-87C683BA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24A1-214C-4FFC-8519-4580D3AB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B516F-FA62-45FD-AFB0-A3586B82D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akvis.com/en/photoshop-tips/editing-tools.php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arter re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pairs brainstorm one of the key skills development areas we have covered alr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ea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eedback and apply one aspect at least to your AS and/or A2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have your post-production skills developed from AS to A2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What to leave ou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nk about your AS and your A2 productions. Make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did you make a  decision about what photographs to use for your music ma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did you make a decision about what footage to use and leave out for your film trail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6" dur="2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ook at your work on the wi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is imperative that you look closely at your wiki pages and make notes on your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ok at your work and make further notes in your bookl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morrow: Practice questions Section 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A- post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B – audi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8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3" dur="2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8" dur="2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3" dur="2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8" dur="20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8920" y="1557000"/>
            <a:ext cx="424836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er: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hat ‘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ost-production’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techniques have been used to create this mag front cover?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post-it notes provi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V:\Media\A2 work for display 2011\Mark Sison Front Cover.jpg"/>
          <p:cNvPicPr/>
          <p:nvPr/>
        </p:nvPicPr>
        <p:blipFill>
          <a:blip r:embed="rId1"/>
          <a:stretch/>
        </p:blipFill>
        <p:spPr>
          <a:xfrm>
            <a:off x="4427640" y="692280"/>
            <a:ext cx="404820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oretical Evaluation-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ost- P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704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im: to discuss how your post-production skills have developed from AS to A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post-produc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t production is everything that is done after the production phase (photography, filming et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the final stage of constructing your ‘raw images/footage’ into a finished draf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at are the main elements to post produc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udio-visual work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ing the raw filmed mater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oosing and dubbing on sound (if film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ting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ng titles and other after eff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lecting and manipulating ima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rging lay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yout design, including placement of text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kvis.com/en/photoshop-tips/editing-tools.ph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5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8920" y="1557360"/>
            <a:ext cx="396108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hat editing decisions were made when creating this front cov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V:\Media\A2 work for display 2011\Mark Sison Front Cover.jpg"/>
          <p:cNvPicPr/>
          <p:nvPr/>
        </p:nvPicPr>
        <p:blipFill>
          <a:blip r:embed="rId1"/>
          <a:stretch/>
        </p:blipFill>
        <p:spPr>
          <a:xfrm>
            <a:off x="4427640" y="692280"/>
            <a:ext cx="404820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0000"/>
                </a:solidFill>
                <a:latin typeface="Arial"/>
              </a:rPr>
              <a:t>Film editing- </a:t>
            </a: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re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67564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uring AS year we studied editing for the TV drama section of the ex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ting is often thought of a as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 of cutting d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can also b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 of coordinating and connecting one shot to an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ting can be split into two se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uxtaposition and length of sho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i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effe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alysing edit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496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does the editing help to create audience meaning in this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railer?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e notes and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si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lection and sequencing of sh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Use of transitions and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sound edi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ask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Now write 2 paragraphs, discussing how the editing makes meaning for the audi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ost production difficul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this question it is vital that you compare across AS and A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What could you have done differently during the post-production stage of your production work? Discu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ought about the editing/construction of mag before filming/photo sho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en more careful/organised in the selection of mate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d more practice on the software. Shared the burden of editing –A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oked closely at professional work- often we only look at pro work during the planning stag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2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2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20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25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lm Editing- or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viewing raw foo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loading to hard dr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lecting footage – EDL (edit decision li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verting selected footage (if necessa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ning Premiere/Final Cut Pro/Vegas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orting cl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orting music and dragging onto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agging clips onto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tting cl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dering clips on timeline into a rough 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ding effects and tran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ding tit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7T07:57:44Z</dcterms:created>
  <dc:creator> </dc:creator>
  <dc:description/>
  <dc:language>en-US</dc:language>
  <cp:lastModifiedBy>Theo</cp:lastModifiedBy>
  <dcterms:modified xsi:type="dcterms:W3CDTF">2013-04-18T10:37:56Z</dcterms:modified>
  <cp:revision>18</cp:revision>
  <dc:subject/>
  <dc:title>Theoretical Evaluation</dc:title>
</cp:coreProperties>
</file>